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-276120"/>
            <a:ext cx="860580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76120"/>
            <a:ext cx="86058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Doporučení strategi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Titule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Shrňte hlavní plán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Popište dlouhodobou strategii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Dlouhodobý cíl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Stanovte dlouhodobý cí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Definujte cíl podrobněji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Současná situac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Představte současnou situaci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Vývoj do současnost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Vývoj uskutečněný do dnešk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Důležité informace o pozadí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Původní předpoklady, které se ukázaly jako špatné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Původní předpoklady, které se ukázaly jako správné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Potenciální alternativy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Vysvětlete potenciální alternativ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Vypište všechna pro a proti těchto alternativ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Uveďte odhady nákladů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-276480"/>
            <a:ext cx="860760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cs-CZ" sz="4000" spc="-1" strike="noStrike">
                <a:solidFill>
                  <a:srgbClr val="e6e6e6"/>
                </a:solidFill>
                <a:latin typeface="Arial"/>
              </a:rPr>
              <a:t>Doporučení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Doporučte jednu nebo více strategií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Shrňte očekávané výsledk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Vyjmenujte další nutné krok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Arial"/>
              </a:rPr>
              <a:t>Delegujte jednotlivé úkoly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21:21:02Z</dcterms:created>
  <dc:creator>Petr Tyrmer</dc:creator>
  <dc:description>Uvedení vývoje a alternativ, doporučení jedné nebo více strategií</dc:description>
  <dc:language>en-US</dc:language>
  <cp:lastModifiedBy>Petr Tyrmer</cp:lastModifiedBy>
  <dcterms:modified xsi:type="dcterms:W3CDTF">2011-12-30T21:21:37Z</dcterms:modified>
  <cp:revision>2</cp:revision>
  <dc:subject/>
  <dc:title>Doporučení strategie</dc:title>
</cp:coreProperties>
</file>