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988-8A1E-4F4D-9F4A-C2EC3C0C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B2C-006A-4FA4-A07F-1F278209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E80-A9DA-460D-BED3-2D990FF8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F83E-9B0C-4F41-ABEE-45080614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125-C6E8-44A6-A926-4FC6FC7D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533F-7456-4D77-859F-4735278E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1EBD-5729-489A-B9C5-A88ED7C4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571-E826-4981-BF3F-75D2A58F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96A-4450-4AA9-A873-ED1D1ABE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08F-E3BB-4B59-96F3-3D6B13C1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C56A-FE40-4B3B-8E1C-30B8212C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0D8-D10F-4149-870A-4C21A569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9FC9-F059-41BD-900C-6E5B7B27C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oejog.wz.cz/ruzne/pripony.htm" TargetMode="External"/><Relationship Id="rId2" Type="http://schemas.openxmlformats.org/officeDocument/2006/relationships/hyperlink" Target="http://www.apu.cz/ucebnicexp/windows/ovladani/priponysouboru.php" TargetMode="External"/><Relationship Id="rId3" Type="http://schemas.openxmlformats.org/officeDocument/2006/relationships/hyperlink" Target="http://idoc.vsb.cz/cs/okruhy/cit/uzivatel/pripony/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ěco o příponách najdeš na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2781000"/>
            <a:ext cx="835344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oejog.wz.cz/ruzne/pripony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pu.cz/ucebnicexp/windows/ovladani/priponysouboru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doc.vsb.cz/cs/okruhy/cit/uzivatel/pripony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21:56:21Z</dcterms:created>
  <dc:creator>TECRA01</dc:creator>
  <dc:description/>
  <dc:language>en-US</dc:language>
  <cp:lastModifiedBy>TECRA01</cp:lastModifiedBy>
  <dcterms:modified xsi:type="dcterms:W3CDTF">2011-12-30T22:00:12Z</dcterms:modified>
  <cp:revision>2</cp:revision>
  <dc:subject/>
  <dc:title>Něco o příponách nejdeš …</dc:title>
</cp:coreProperties>
</file>